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7.jpeg" ContentType="image/jpeg"/>
  <Override PartName="/ppt/media/image8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FACB-3E98-429E-95F4-B8D038AD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763-B3D8-4535-A0AD-0621AC45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BF8-6244-4DB4-B8E2-FB9909D7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9B1-DA36-4FE1-816A-23E5A167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EEE4-37E6-4A17-AA4B-70DBFF3F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25B4-A3E1-428C-88EA-1DE6DFCB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996D-35D5-414F-8849-E3EF6411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26ED-970C-4C76-805E-F7DDF518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C882-994E-4B03-B0AE-35774E7C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7EB1-5A8F-407C-9229-5DC8838E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3A63-3A3A-4B64-B3A5-BC740380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7CE5-DE18-488F-9590-03104A16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3737-4C50-409D-9355-39C5FAAF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FEE2-22BF-481F-810C-D3F69C23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B042-0C41-4CA0-9993-50CB7944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B8B9-2D37-4F93-80F2-28D57714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5226-B76B-49C2-9975-08FD81DA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0B8-DF21-47A9-8C03-FDD00501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BC1-AA2D-4612-9665-E1A198A6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C4F3-B1E8-48CA-8BCE-39DAE9FD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5D7-2CB3-448A-83E4-1463E68B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36D9-CADD-4C1C-9728-9F305F96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423-4FBD-42E6-822D-C75A9AB0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9E6-A957-4555-B830-092521E9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BCF6-9F49-433B-B222-D724D9EEED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723C-DD81-4A11-B0FC-87F9BDE16E85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cientific Revolut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eriod marked by new methods of thinking (focusing on science and math). MEDIEVAL UNIVERSIT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naissance vigor carried into a quest for tru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ploration demanded new too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eople challenged traditional Church teachings (REFORMATION weakened Christian “science.”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838080" y="2536920"/>
            <a:ext cx="3810240" cy="43210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/>
          <p:cNvSpPr/>
          <p:nvPr/>
        </p:nvSpPr>
        <p:spPr>
          <a:xfrm>
            <a:off x="685800" y="228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Rene Descartes (b. 1596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-emphasized deductive reasoning “Cogito Ergo Sum”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- “I think therefore I am”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-Deduction: assumed premises are combine to make conclusions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4800600" y="3200400"/>
            <a:ext cx="41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xamples of Deduction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-All men are mortal, Ryan is an man; therefore, Ryan is mor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-God exists, god is good; therefore, _____________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More . . . 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53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cientific Metho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uestion/Proble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ypothe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perime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ploration required new too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" name="Picture 12" descr="MMj02347030000[1]"/>
          <p:cNvPicPr/>
          <p:nvPr/>
        </p:nvPicPr>
        <p:blipFill>
          <a:blip r:embed="rId1"/>
          <a:stretch/>
        </p:blipFill>
        <p:spPr>
          <a:xfrm>
            <a:off x="7620120" y="541008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214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IMPAC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90720" y="10666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 international commun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cientific Metho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mproves nautical technolog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imited initial applic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atomy…. Y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dicine… nop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afety regulations…  nop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were unaware or viewed as triv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Aristotl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495680" y="-360"/>
            <a:ext cx="46483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Geocentric Univer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10 crystal sphe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ublunar element sph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’s of this ver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~ explains what we se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~ supports Christian i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6" name="Picture 2" descr="http://zebu.uoregon.edu/timages/cosmos.jpg"/>
          <p:cNvPicPr/>
          <p:nvPr/>
        </p:nvPicPr>
        <p:blipFill>
          <a:blip r:embed="rId1"/>
          <a:stretch/>
        </p:blipFill>
        <p:spPr>
          <a:xfrm>
            <a:off x="0" y="2255760"/>
            <a:ext cx="45720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solar_syste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New Universal Model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ernicus (early 1500’s) challenges the idea of geocentricis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poses a heliocentric univer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 is the center of a moving univer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rotates (movement of star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ge univer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numerous plane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: Christian condemnation (Protestant protest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stars/comets earn him cre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1436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360" y="76212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cho Brahe collects data on the movement of heavenly bodies (star charts and map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mark observator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pler finishes Brahe’s wor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ary Mo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ets move in an elliptic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rregular spee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rbit time based on distance from su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Galileo’s Discoveries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33360" y="1219320"/>
            <a:ext cx="7010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609 – Modifies a Dutch telescope to look into the heave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celeration/terminal velocity is the same regardless of weigh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s many heavenly bo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tronized by Medici’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ndings destroy Aristotle’s theor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urch is furio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" name="Picture 5" descr="galileo_sustermans"/>
          <p:cNvPicPr/>
          <p:nvPr/>
        </p:nvPicPr>
        <p:blipFill>
          <a:blip r:embed="rId1"/>
          <a:stretch/>
        </p:blipFill>
        <p:spPr>
          <a:xfrm>
            <a:off x="0" y="0"/>
            <a:ext cx="2152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Galileo confesse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sks for forgivene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 placed under house arrest (di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992 – Church admits he was righ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cholars read his theories and his views are accepted as “tru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Newton (1642-1727) Eng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tensely religio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eni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incipia (1687) = physics until Einstei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thematical laws &amp; mo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niversal gravi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Picture 2" descr="http://www.apeuropeanlahs.org/images/newton2.gif"/>
          <p:cNvPicPr/>
          <p:nvPr/>
        </p:nvPicPr>
        <p:blipFill>
          <a:blip r:embed="rId1"/>
          <a:stretch/>
        </p:blipFill>
        <p:spPr>
          <a:xfrm>
            <a:off x="6153120" y="3352680"/>
            <a:ext cx="2990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arriors of Scienc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0666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ancis Bacon (English writer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tacked those who accepted the Church and Ancients without ques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mpiricism – must experiment &amp; obser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07920" indent="-43632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omotes public scientific inquir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Picture 5" descr="Francis_Bacon"/>
          <p:cNvPicPr/>
          <p:nvPr/>
        </p:nvPicPr>
        <p:blipFill>
          <a:blip r:embed="rId1"/>
          <a:stretch/>
        </p:blipFill>
        <p:spPr>
          <a:xfrm>
            <a:off x="6705720" y="4191120"/>
            <a:ext cx="2438280" cy="2666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Bacon"/>
          <p:cNvPicPr/>
          <p:nvPr/>
        </p:nvPicPr>
        <p:blipFill>
          <a:blip r:embed="rId2"/>
          <a:stretch/>
        </p:blipFill>
        <p:spPr>
          <a:xfrm>
            <a:off x="0" y="4191120"/>
            <a:ext cx="274320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ttp://static.guim.co.uk/sys-images/Arts/Arts_/Pictures/2008/12/17/orrery460.jpg"/>
          <p:cNvPicPr/>
          <p:nvPr/>
        </p:nvPicPr>
        <p:blipFill>
          <a:blip r:embed="rId3"/>
          <a:stretch/>
        </p:blipFill>
        <p:spPr>
          <a:xfrm>
            <a:off x="0" y="3886200"/>
            <a:ext cx="4952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Logic: Inductive vs. Deductive Reasoning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33360" y="1219320"/>
            <a:ext cx="7010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ductive: Take data and determine what conclusions can be mad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s cat is black. That cat is black. A third cat is black; therefore, all cats are black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probability of becoming schizophrenic is greatly increased if at least one parent is schizophreni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uses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herited? taught behavior? No effect is not an op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02:32:34Z</dcterms:created>
  <dc:creator>Robert Kuenzi</dc:creator>
  <dc:description/>
  <dc:language>en-US</dc:language>
  <cp:lastModifiedBy>Kuenzi</cp:lastModifiedBy>
  <dcterms:modified xsi:type="dcterms:W3CDTF">2016-12-14T17:54:57Z</dcterms:modified>
  <cp:revision>34</cp:revision>
  <dc:subject/>
  <dc:title>The Scientific Revolu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91033</vt:lpwstr>
  </property>
</Properties>
</file>